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BD3-6872-4718-909D-47011D8B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323-9479-4AE3-B1BC-BF3BEB4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B34-F9BB-4626-9DA5-384D09DC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E42-CA9E-416B-919C-1919D975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F06-A302-484B-AD2B-9BC5B292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73C-84EE-4BE3-B3FA-20B6B239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A96-3244-49EC-9FE1-66E1DE46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298-52C4-4C00-ADE4-EB96D96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212-1E21-469A-8480-43B5CEC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ED5-60A4-44E9-9127-E4211B2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9E9-6453-4004-AFD1-DA1C466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99A-E37E-4E13-8810-9D8BB07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677-CA4E-4454-BD53-ECB668DF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e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1187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87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58920" y="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cohol, Drug and Mental Health Comorbidity on the Texas-Mexico B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ynn Wallisch and Richard Sp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Texas at Austin, School of Social Work, Addiction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68280"/>
            <a:ext cx="248436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Univers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1557360"/>
            <a:ext cx="4356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a representative sample of adults living in residential households on the Texas-Mexico border, 12.9% had DSM-IV defined problems of alcohol abuse or dependence. Some 5.6% had alcohol problems only, another 2.8% had alcohol problems and also used illicit drugs, and 3.5% had alcohol problems and problems with gambling and/or mental health. This study compares characteristics and treatment attitudes and behaviors among these three groups. Comorbidity is expected to be associated with acculturation; with substance problem severity; and with increased likelihood of seeking ser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3171960" cy="35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816360" y="1268280"/>
          <a:ext cx="4859280" cy="271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16360" y="1268280"/>
                    <a:ext cx="485928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51280" y="4008600"/>
          <a:ext cx="4749840" cy="2660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1280" y="4008600"/>
                    <a:ext cx="4749840" cy="26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 txBox="1"/>
          <p:nvPr/>
        </p:nvSpPr>
        <p:spPr>
          <a:xfrm>
            <a:off x="1763640" y="4221000"/>
            <a:ext cx="230508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EXAMP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13000"/>
            <a:ext cx="248436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Univers"/>
              </a:rPr>
              <a:t>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1:44:39Z</dcterms:created>
  <dc:creator>chj</dc:creator>
  <dc:description/>
  <dc:language>en-US</dc:language>
  <cp:lastModifiedBy>chj</cp:lastModifiedBy>
  <dcterms:modified xsi:type="dcterms:W3CDTF">2008-09-22T01:58:48Z</dcterms:modified>
  <cp:revision>6</cp:revision>
  <dc:subject/>
  <dc:title>幻灯片 1</dc:title>
</cp:coreProperties>
</file>